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057D-7D12-4962-9003-A45C587F4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4860-6861-496C-8BB2-5AB624895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61DC-D356-40DA-912F-24EFB7F70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2BA2-1F34-471B-A57B-34B32F797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75071E-9887-4E55-B0A8-4D03433A1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013FC9-DCC4-46D7-86D5-669D78C87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1890A8-5D59-4D71-A32D-100DDE883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9E001A-B5A1-47A2-AECB-6D71AAE99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805941-B5DD-4162-A9DC-66935E206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F6F958-3897-4F4E-A0B0-8A8A22BDE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F6BD46-BAC9-4C07-B8D4-3473F769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A95C-2FC6-4753-98A2-3F286FD20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110EBC-47E5-4C2F-B103-9EA6E926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FC90D3-AF0D-4B2D-9A42-BACA50F2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7EFB2C-EE0E-42E1-9CF6-22771EF0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798020-8733-4E24-A5C8-7C99E1DD2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E83731-D7FA-4306-9DA8-B389DF338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F902-DCCF-4A1D-BD8E-4AFD266C5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FB93-C4DA-4D95-810E-20AB792F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4872-137A-4DFE-9208-04E20170F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438A-CA83-4A12-93FF-EB07BAB7F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760D-294B-4280-861D-614B689B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F644-16AE-4F3C-81F8-6C727522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D6CA-D4AD-4188-9C25-7176EE47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AB575-F208-45D8-A496-6443076163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EB683-95CA-4A5E-858E-FA1CCAC033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Bridging Nations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day we stand on a bridge leading from our own world to a united  community.”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y Murner/Baldwi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FLECTION QUES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was the Bridging Nations activity abou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cribe your teams method for building the bridge and materials us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FLECTION CONT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cribe the results of your bridge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How much weight did it hold, how much did it cost, are there any flaws in your bridg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cuss the success of your bridg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1T15:39:33Z</dcterms:created>
  <dc:creator>OSU</dc:creator>
  <dc:description/>
  <dc:language>en-US</dc:language>
  <cp:lastModifiedBy>OSU</cp:lastModifiedBy>
  <dcterms:modified xsi:type="dcterms:W3CDTF">2008-07-21T16:36:46Z</dcterms:modified>
  <cp:revision>3</cp:revision>
  <dc:subject/>
  <dc:title>Bridging Nations</dc:title>
</cp:coreProperties>
</file>